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42.gif" ContentType="image/gif"/>
  <Override PartName="/ppt/media/ricochet.wav" ContentType="audio/x-wav"/>
  <Override PartName="/ppt/media/image40.wmf" ContentType="image/x-wmf"/>
  <Override PartName="/ppt/media/cashreg.wav" ContentType="audio/x-wav"/>
  <Override PartName="/ppt/media/telephone.wav" ContentType="audio/x-wav"/>
  <Override PartName="/ppt/media/image20.wmf" ContentType="image/x-wmf"/>
  <Override PartName="/ppt/media/driveby.wav" ContentType="audio/x-wav"/>
  <Override PartName="/ppt/media/image34.gif" ContentType="image/gif"/>
  <Override PartName="/ppt/media/image30.wmf" ContentType="image/x-wmf"/>
  <Override PartName="/ppt/media/projctor.wav" ContentType="audio/x-wav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wmf" ContentType="image/x-wmf"/>
  <Override PartName="/ppt/media/image32.wmf" ContentType="image/x-wmf"/>
  <Override PartName="/ppt/media/image31.wmf" ContentType="image/x-wmf"/>
  <Override PartName="/ppt/media/image41.gif" ContentType="image/gif"/>
  <Override PartName="/ppt/media/oldcarhorn.wav" ContentType="audio/x-wav"/>
  <Override PartName="/ppt/media/EXPLODE.WAV" ContentType="audio/x-wav"/>
  <Override PartName="/ppt/media/image1.wmf" ContentType="image/x-wmf"/>
  <Override PartName="/ppt/media/image13.wmf" ContentType="image/x-wmf"/>
  <Override PartName="/ppt/media/image28.wmf" ContentType="image/x-wmf"/>
  <Override PartName="/ppt/media/voltage.wav" ContentType="audio/x-wav"/>
  <Override PartName="/ppt/media/image43.wmf" ContentType="image/x-wmf"/>
  <Override PartName="/ppt/media/image56.wmf" ContentType="image/x-wmf"/>
  <Override PartName="/ppt/media/image44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zipdn102.wav" ContentType="audio/x-wav"/>
  <Override PartName="/ppt/media/image46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CHIMES.WAV" ContentType="audio/x-wav"/>
  <Override PartName="/ppt/media/image49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10.wmf" ContentType="image/x-wmf"/>
  <Override PartName="/ppt/media/image45.wmf" ContentType="image/x-wmf"/>
  <Override PartName="/ppt/media/carbrake.wav" ContentType="audio/x-wav"/>
  <Override PartName="/ppt/media/image15.wmf" ContentType="image/x-wmf"/>
  <Override PartName="/ppt/media/image3.wmf" ContentType="image/x-wmf"/>
  <Override PartName="/ppt/media/image33.wmf" ContentType="image/x-wmf"/>
  <Override PartName="/ppt/media/image57.gif" ContentType="image/gif"/>
  <Override PartName="/ppt/media/image17.wmf" ContentType="image/x-wmf"/>
  <Override PartName="/ppt/media/image5.wmf" ContentType="image/x-wmf"/>
  <Override PartName="/ppt/media/image35.wmf" ContentType="image/x-wmf"/>
  <Override PartName="/ppt/media/spacesound2.wav" ContentType="audio/x-wav"/>
  <Override PartName="/ppt/media/suction.wav" ContentType="audio/x-wav"/>
  <Override PartName="/ppt/media/image24.wmf" ContentType="image/x-wmf"/>
  <Override PartName="/ppt/media/image12.wmf" ContentType="image/x-wmf"/>
  <Override PartName="/ppt/media/hzipup01.wav" ContentType="audio/x-wav"/>
  <Override PartName="/ppt/media/image36.wmf" ContentType="image/x-wmf"/>
  <Override PartName="/ppt/media/gunshot.wav" ContentType="audio/x-wav"/>
  <Override PartName="/ppt/media/image25.wmf" ContentType="image/x-wmf"/>
  <Override PartName="/ppt/media/image6.wmf" ContentType="image/x-wmf"/>
  <Override PartName="/ppt/media/image18.wmf" ContentType="image/x-wmf"/>
  <Override PartName="/ppt/media/image37.wmf" ContentType="image/x-wmf"/>
  <Override PartName="/ppt/media/spship04.wav" ContentType="audio/x-wav"/>
  <Override PartName="/ppt/media/image8.wmf" ContentType="image/x-wmf"/>
  <Override PartName="/ppt/media/image38.wmf" ContentType="image/x-wmf"/>
  <Override PartName="/ppt/media/image9.wmf" ContentType="image/x-wmf"/>
  <Override PartName="/ppt/media/wind.wav" ContentType="audio/x-wav"/>
  <Override PartName="/ppt/media/image39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CDE-AB64-4259-B1BB-C1328F7F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8A3-20F6-44DE-82C1-E6B5998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6A2-593A-49F4-AC56-E2670DF6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F33-B748-4EDD-B891-8D10674C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FA9-4068-481D-A5FB-40AC0DDE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299-A766-4B56-8A3E-34BA91FB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F6E-04E5-459B-8191-A6081C2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4F4-F196-4077-A904-BE5C7EE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DCC-B9A9-47C9-BDEF-1F7142D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132-5CDF-453E-B548-AA582A3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1E3-A80F-44EA-BC7A-CCEE256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1BF-23DE-4295-8980-C7EB3E7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212-1A3A-4BCE-8E80-513BF2B00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carbrake.wav"/><Relationship Id="rId31" Type="http://schemas.openxmlformats.org/officeDocument/2006/relationships/audio" Target="../media/projctor.wav"/><Relationship Id="rId32" Type="http://schemas.openxmlformats.org/officeDocument/2006/relationships/audio" Target="../media/driveby.wav"/><Relationship Id="rId33" Type="http://schemas.openxmlformats.org/officeDocument/2006/relationships/audio" Target="../media/LASER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projctor.wav"/><Relationship Id="rId37" Type="http://schemas.openxmlformats.org/officeDocument/2006/relationships/audio" Target="../media/projctor.wav"/><Relationship Id="rId38" Type="http://schemas.openxmlformats.org/officeDocument/2006/relationships/audio" Target="../media/projctor.wav"/><Relationship Id="rId39" Type="http://schemas.openxmlformats.org/officeDocument/2006/relationships/audio" Target="../media/projctor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EXPLODE.WAV"/><Relationship Id="rId44" Type="http://schemas.openxmlformats.org/officeDocument/2006/relationships/audio" Target="../media/oldcarhorn.wav"/><Relationship Id="rId4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image" Target="../media/image57.gif"/><Relationship Id="rId14" Type="http://schemas.openxmlformats.org/officeDocument/2006/relationships/image" Target="../media/image41.gif"/><Relationship Id="rId15" Type="http://schemas.openxmlformats.org/officeDocument/2006/relationships/audio" Target="../media/carbrake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ricochet.wav"/><Relationship Id="rId22" Type="http://schemas.openxmlformats.org/officeDocument/2006/relationships/audio" Target="../media/gunshot.wav"/><Relationship Id="rId23" Type="http://schemas.openxmlformats.org/officeDocument/2006/relationships/audio" Target="../media/ricochet.wav"/><Relationship Id="rId24" Type="http://schemas.openxmlformats.org/officeDocument/2006/relationships/audio" Target="../media/projctor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projctor.wav"/><Relationship Id="rId30" Type="http://schemas.openxmlformats.org/officeDocument/2006/relationships/audio" Target="../media/spacesound2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suction.wav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voltage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wind.wav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hzipup01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telephone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wmf"/><Relationship Id="rId18" Type="http://schemas.openxmlformats.org/officeDocument/2006/relationships/image" Target="../media/image41.gif"/><Relationship Id="rId19" Type="http://schemas.openxmlformats.org/officeDocument/2006/relationships/audio" Target="../media/CHIMES.WAV"/><Relationship Id="rId20" Type="http://schemas.openxmlformats.org/officeDocument/2006/relationships/audio" Target="../media/cashreg.wav"/><Relationship Id="rId21" Type="http://schemas.openxmlformats.org/officeDocument/2006/relationships/audio" Target="../media/projctor.wav"/><Relationship Id="rId22" Type="http://schemas.openxmlformats.org/officeDocument/2006/relationships/audio" Target="../media/LASE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gunshot.wav"/><Relationship Id="rId26" Type="http://schemas.openxmlformats.org/officeDocument/2006/relationships/audio" Target="../media/ricochet.wav"/><Relationship Id="rId27" Type="http://schemas.openxmlformats.org/officeDocument/2006/relationships/audio" Target="../media/gunshot.wav"/><Relationship Id="rId28" Type="http://schemas.openxmlformats.org/officeDocument/2006/relationships/audio" Target="../media/ricochet.wav"/><Relationship Id="rId29" Type="http://schemas.openxmlformats.org/officeDocument/2006/relationships/audio" Target="../media/projctor.wav"/><Relationship Id="rId30" Type="http://schemas.openxmlformats.org/officeDocument/2006/relationships/audio" Target="../media/gunshot.wav"/><Relationship Id="rId31" Type="http://schemas.openxmlformats.org/officeDocument/2006/relationships/audio" Target="../media/gunshot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projctor.wav"/><Relationship Id="rId35" Type="http://schemas.openxmlformats.org/officeDocument/2006/relationships/audio" Target="../media/spacesound2.wav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image" Target="../media/image41.gif"/><Relationship Id="rId13" Type="http://schemas.openxmlformats.org/officeDocument/2006/relationships/audio" Target="../media/cashreg.wav"/><Relationship Id="rId14" Type="http://schemas.openxmlformats.org/officeDocument/2006/relationships/audio" Target="../media/projctor.wav"/><Relationship Id="rId15" Type="http://schemas.openxmlformats.org/officeDocument/2006/relationships/audio" Target="../media/LASE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spship04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image" Target="../media/image41.gif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audio" Target="../media/projctor.wav"/><Relationship Id="rId21" Type="http://schemas.openxmlformats.org/officeDocument/2006/relationships/audio" Target="../media/driveby.wav"/><Relationship Id="rId22" Type="http://schemas.openxmlformats.org/officeDocument/2006/relationships/audio" Target="../media/LASER.WAV"/><Relationship Id="rId23" Type="http://schemas.openxmlformats.org/officeDocument/2006/relationships/audio" Target="../media/driveby.wav"/><Relationship Id="rId24" Type="http://schemas.openxmlformats.org/officeDocument/2006/relationships/audio" Target="../media/LASE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zipdn102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44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224320" y="3962520"/>
          <a:ext cx="61776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4320" y="3962520"/>
                    <a:ext cx="6177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95880" y="4191120"/>
          <a:ext cx="94320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4191120"/>
                    <a:ext cx="9432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57600" y="3352680"/>
          <a:ext cx="34830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3352680"/>
                    <a:ext cx="3483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410080" y="4572000"/>
          <a:ext cx="397080" cy="52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10080" y="457200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67080" y="5334120"/>
          <a:ext cx="104796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67080" y="5334120"/>
                    <a:ext cx="1047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11800" y="5207040"/>
          <a:ext cx="785880" cy="619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11800" y="5207040"/>
                    <a:ext cx="785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017960" y="2895480"/>
          <a:ext cx="274320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2895480"/>
                    <a:ext cx="2743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A person who weighs 160 pounds on Earth weighs 139 pounds on Venus.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9810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. A person weighs 195 pounds on Earth. Use the model to estimate that person’s weight on Venu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62320" y="2895480"/>
                <a:ext cx="165708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324480" y="2819520"/>
                <a:ext cx="1600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3664080" y="3352680"/>
          <a:ext cx="108900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080" y="3352680"/>
                    <a:ext cx="10890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 flipV="1">
            <a:off x="5237280" y="3809520"/>
            <a:ext cx="8380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989760" y="304812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313240" y="312372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66080" y="3809520"/>
            <a:ext cx="8380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133720" y="4343400"/>
          <a:ext cx="7016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701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V="1">
            <a:off x="2570040" y="3962520"/>
            <a:ext cx="8384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637080" y="350532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095720" y="2971800"/>
          <a:ext cx="7002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95720" y="2971800"/>
                    <a:ext cx="70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987800" y="4648320"/>
          <a:ext cx="1108080" cy="6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87800" y="4648320"/>
                    <a:ext cx="1108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505320" y="4267080"/>
          <a:ext cx="1473120" cy="160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267080"/>
                    <a:ext cx="14731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0" y="58672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person’s weight on Venus would be </a:t>
            </a:r>
            <a:r>
              <a:rPr b="1" lang="en-US" sz="3000" spc="-1" strike="noStrike">
                <a:solidFill>
                  <a:srgbClr val="cc3300"/>
                </a:solidFill>
                <a:latin typeface="Times New Roman"/>
              </a:rPr>
              <a:t>169.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ound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3"/>
          <a:stretch/>
        </p:blipFill>
        <p:spPr>
          <a:xfrm>
            <a:off x="7162920" y="4495680"/>
            <a:ext cx="1814400" cy="2362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4"/>
          <a:stretch/>
        </p:blipFill>
        <p:spPr>
          <a:xfrm>
            <a:off x="228600" y="2971800"/>
            <a:ext cx="18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spaces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78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334120" y="3962520"/>
          <a:ext cx="39672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9625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19920" y="3733920"/>
          <a:ext cx="110016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3733920"/>
                    <a:ext cx="11001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27440" y="3352680"/>
          <a:ext cx="334152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7440" y="3352680"/>
                    <a:ext cx="33415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34120" y="4648320"/>
          <a:ext cx="39672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46483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5875200"/>
          <a:ext cx="104760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875200"/>
                    <a:ext cx="104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257800" y="5257800"/>
          <a:ext cx="1047600" cy="160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57800" y="5257800"/>
                    <a:ext cx="1047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112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157720" y="3962520"/>
          <a:ext cx="74952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7720" y="3962520"/>
                    <a:ext cx="7495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097680" y="4222800"/>
          <a:ext cx="94284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7680" y="4222800"/>
                    <a:ext cx="942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657600" y="3352680"/>
          <a:ext cx="400068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3352680"/>
                    <a:ext cx="4000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157720" y="4648320"/>
          <a:ext cx="74952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57720" y="4648320"/>
                    <a:ext cx="7495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343400" y="5875200"/>
          <a:ext cx="104760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875200"/>
                    <a:ext cx="104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334120" y="5867280"/>
          <a:ext cx="523800" cy="517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5867280"/>
                    <a:ext cx="523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146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157720" y="3962520"/>
          <a:ext cx="74952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7720" y="3962520"/>
                    <a:ext cx="7495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943600" y="3733920"/>
          <a:ext cx="151920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3733920"/>
                    <a:ext cx="151920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681360" y="3352680"/>
          <a:ext cx="39528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81360" y="3352680"/>
                    <a:ext cx="39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257800" y="4648320"/>
          <a:ext cx="66024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648320"/>
                    <a:ext cx="6602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43400" y="5791320"/>
          <a:ext cx="104760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791320"/>
                    <a:ext cx="1047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5254560"/>
          <a:ext cx="1414440" cy="160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57800" y="5254560"/>
                    <a:ext cx="1414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180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334120" y="3962520"/>
          <a:ext cx="44136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962520"/>
                    <a:ext cx="4413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205680" y="4222800"/>
          <a:ext cx="99540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05680" y="422280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846600" y="3352680"/>
          <a:ext cx="362268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6600" y="3352680"/>
                    <a:ext cx="3622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35480" y="4648320"/>
          <a:ext cx="70488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35480" y="4648320"/>
                    <a:ext cx="7048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343400" y="5791320"/>
          <a:ext cx="104760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791320"/>
                    <a:ext cx="1047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410080" y="5638680"/>
          <a:ext cx="838440" cy="621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5638680"/>
                    <a:ext cx="8384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214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34120" y="3962520"/>
          <a:ext cx="44136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962520"/>
                    <a:ext cx="4413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943600" y="3733920"/>
          <a:ext cx="151920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3733920"/>
                    <a:ext cx="151920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659040" y="3352680"/>
          <a:ext cx="399924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9040" y="3352680"/>
                    <a:ext cx="39992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081760" y="4648320"/>
          <a:ext cx="101268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1760" y="4648320"/>
                    <a:ext cx="1012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343400" y="5867280"/>
          <a:ext cx="104760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867280"/>
                    <a:ext cx="104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34120" y="5254560"/>
          <a:ext cx="1414440" cy="160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5254560"/>
                    <a:ext cx="1414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1600200" cy="2666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191120" y="2971800"/>
          <a:ext cx="254952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971800"/>
                    <a:ext cx="2549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809880" y="3352680"/>
          <a:ext cx="98928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352680"/>
                    <a:ext cx="989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743200" y="2948040"/>
                <a:ext cx="1541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"/>
          <p:cNvGraphicFramePr/>
          <p:nvPr/>
        </p:nvGraphicFramePr>
        <p:xfrm>
          <a:off x="2286000" y="3886200"/>
          <a:ext cx="3952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38862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648320" y="4572000"/>
          <a:ext cx="114588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4572000"/>
                    <a:ext cx="114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380880" y="5486400"/>
            <a:ext cx="6248520" cy="1371600"/>
            <a:chOff x="380880" y="5486400"/>
            <a:chExt cx="6248520" cy="1371600"/>
          </a:xfrm>
        </p:grpSpPr>
        <p:sp>
          <p:nvSpPr>
            <p:cNvPr id="258" name=""/>
            <p:cNvSpPr/>
            <p:nvPr/>
          </p:nvSpPr>
          <p:spPr>
            <a:xfrm>
              <a:off x="380880" y="5486400"/>
              <a:ext cx="624852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The person’s weight on Mars would be             pounds.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2666880" y="5791320"/>
            <a:ext cx="749520" cy="1066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5791320"/>
                      <a:ext cx="749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1" name=""/>
          <p:cNvGrpSpPr/>
          <p:nvPr/>
        </p:nvGrpSpPr>
        <p:grpSpPr>
          <a:xfrm>
            <a:off x="0" y="1143000"/>
            <a:ext cx="8839080" cy="1968840"/>
            <a:chOff x="0" y="1143000"/>
            <a:chExt cx="8839080" cy="1968840"/>
          </a:xfrm>
        </p:grpSpPr>
        <p:sp>
          <p:nvSpPr>
            <p:cNvPr id="262" name=""/>
            <p:cNvSpPr/>
            <p:nvPr/>
          </p:nvSpPr>
          <p:spPr>
            <a:xfrm>
              <a:off x="0" y="1295280"/>
              <a:ext cx="8839080" cy="18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7. Use the ratio model                        to estimate a person’s weight on Mars if the person weighs 120 pounds on Earth. </a:t>
              </a: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                       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3657600" y="1143000"/>
            <a:ext cx="2057400" cy="108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657600" y="1143000"/>
                      <a:ext cx="205740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324480" y="2971800"/>
                <a:ext cx="14590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 flipV="1">
            <a:off x="2819520" y="388620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733920" y="4191120"/>
          <a:ext cx="1011240" cy="13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3920" y="4191120"/>
                    <a:ext cx="10112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 flipV="1">
            <a:off x="3886200" y="342900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475160" y="2895480"/>
          <a:ext cx="438120" cy="520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75160" y="2895480"/>
                    <a:ext cx="4381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flipV="1">
            <a:off x="5181480" y="380952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934320" y="304812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57800" y="3123720"/>
            <a:ext cx="8380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010280" y="380952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8"/>
          <a:stretch/>
        </p:blipFill>
        <p:spPr>
          <a:xfrm>
            <a:off x="228600" y="2971800"/>
            <a:ext cx="18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spaces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715080" y="35244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191120" y="2971800"/>
          <a:ext cx="254952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971800"/>
                    <a:ext cx="2549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6137280" y="3352680"/>
          <a:ext cx="75420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37280" y="3352680"/>
                    <a:ext cx="7542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419720" y="4191120"/>
          <a:ext cx="1719000" cy="134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9720" y="4191120"/>
                    <a:ext cx="1719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0" y="5562720"/>
            <a:ext cx="63244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person’s weight on Earth would be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163.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pound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1143000"/>
            <a:ext cx="8839080" cy="1968840"/>
            <a:chOff x="0" y="1143000"/>
            <a:chExt cx="8839080" cy="1968840"/>
          </a:xfrm>
        </p:grpSpPr>
        <p:sp>
          <p:nvSpPr>
            <p:cNvPr id="288" name=""/>
            <p:cNvSpPr/>
            <p:nvPr/>
          </p:nvSpPr>
          <p:spPr>
            <a:xfrm>
              <a:off x="0" y="1295280"/>
              <a:ext cx="8839080" cy="18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8. Use the ratio model                        to estimate a person’s weight on Earth if the person weighs 62 pounds on Mars. </a:t>
              </a: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                       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9" name=""/>
            <p:cNvGraphicFramePr/>
            <p:nvPr/>
          </p:nvGraphicFramePr>
          <p:xfrm>
            <a:off x="3657600" y="1143000"/>
            <a:ext cx="2057400" cy="1085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57600" y="1143000"/>
                      <a:ext cx="205740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1" name=""/>
          <p:cNvGraphicFramePr/>
          <p:nvPr/>
        </p:nvGraphicFramePr>
        <p:xfrm>
          <a:off x="3952800" y="4603680"/>
          <a:ext cx="571680" cy="52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0" y="4603680"/>
                    <a:ext cx="571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12"/>
          <a:stretch/>
        </p:blipFill>
        <p:spPr>
          <a:xfrm>
            <a:off x="228600" y="3048120"/>
            <a:ext cx="184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105520" y="3657600"/>
          <a:ext cx="274320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657600"/>
                    <a:ext cx="2743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A person who weighs 160 pounds on Earth weighs 139 pounds on Venus.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981080"/>
            <a:ext cx="88390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. Write a model that relates a person’s weight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on Earth to that person’s weight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on Venus.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449440" y="3270240"/>
          <a:ext cx="18828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9440" y="3270240"/>
                    <a:ext cx="1882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176560" y="472428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6560" y="472428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2546280" y="3841920"/>
          <a:ext cx="5414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6280" y="3841920"/>
                    <a:ext cx="541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537000" y="3841920"/>
          <a:ext cx="54288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7000" y="3841920"/>
                    <a:ext cx="542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2438280" y="388620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388620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514600" y="4419720"/>
          <a:ext cx="1055520" cy="13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419720"/>
                    <a:ext cx="1055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819520" y="4495680"/>
          <a:ext cx="923760" cy="52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4495680"/>
                    <a:ext cx="9237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19520" y="5181480"/>
          <a:ext cx="92376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9520" y="5181480"/>
                    <a:ext cx="9237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228600" y="2971800"/>
            <a:ext cx="18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01T11:25:48Z</dcterms:modified>
  <cp:revision>313</cp:revision>
  <dc:subject/>
  <dc:title>No Slide Title</dc:title>
</cp:coreProperties>
</file>